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BB4-58DE-4FD0-8A20-8C3B2CAE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AD5-283D-4724-A2E7-C70402C0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80B-6784-4378-84C2-1B84DF94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56A-68F7-4634-AE26-20D3AE2E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ACF-BB3F-427A-93C6-58C0E3C8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B7A-E958-482F-9FF1-42A21A23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2C5-BC2D-4A97-A7FA-BEF6ACFE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165-E14C-47DA-AFE3-0614A9E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716-54F3-4419-8E33-F7B6C84D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791-3360-44C1-A2A2-329AEAD6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076-9693-4C7F-BFC8-5BC939D7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1F4-797F-45BA-B1DC-92D62CE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7262-C6AA-4C08-B352-A62217017A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Филиппов Н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5BCF-2327-43FC-B0C4-4D7612A0C5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6357960" y="650088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сновополагающий 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857680" y="22147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Болеет ли компьютер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2857680" y="22147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ак отбиться от зараз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857680" y="22147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Ознакомится с основными способами защиты от угро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857680" y="221472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Поиск информации о способах защиты от угро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ассмотреть основные по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Подвести ито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пособ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857680" y="2214720"/>
            <a:ext cx="5929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Остановимся на некоторых способах защиты от наиболее распространенных в настоящее время угроз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Физические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(препятствие). Физические способы защиты основаны на создании физических препятствий для злоумышленника, преграждающих ему путь к защищаемой информации (строгая пропускная система на территорию и в помещения с аппаратурой или 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носителями информации). Несмотря на богатый опыт по применению таких способов следует признать, что они эффективны только от "внешних« злоумышленников и не защищают информацию от тех лиц, которые облада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равом входа в помещ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пособ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857680" y="2214720"/>
            <a:ext cx="5929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Законодательные.</a:t>
            </a: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К законодательным средствам защиты относятся законодательные акты, которыми регламентируются правила использования и обработки информации ограниченного доступа и устанавливаются меры ответственности за нарушения этих прави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пособ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857680" y="2214720"/>
            <a:ext cx="5929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Управление доступом.</a:t>
            </a: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Под управлением доступом понимается способ защиты информации регулированием использования всех ресурсов системы (технических, программных, элементов баз данных). В автоматизированных системах информационного обеспечения должны быть регламентированы порядок работы пользователей и персонала, право доступа к отдельным файлам в базах данных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пособ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4"/>
          <p:cNvSpPr/>
          <p:nvPr/>
        </p:nvSpPr>
        <p:spPr>
          <a:xfrm>
            <a:off x="2857680" y="1428840"/>
            <a:ext cx="59292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857680" y="2214720"/>
            <a:ext cx="592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Криптографическое закрытие.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В сетях ЭВМ наиболее эффективными являются криптографические способы защиты информации. Если физические способы защиты могут быть преодолены путем, например, дистанционного наблюдения, подключения к сети или подкупа персонала, законодательные не всегда сдерживают злоумышленника, а управление доступом не гарантирует от проникновения изощренных "хакеров", то криптографические методы, если они удовлетворяют соответствующим требованиям, характеризуются наибольшей степенью "прочности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0" y="635796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©Филиппов Н.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6:15:57Z</dcterms:created>
  <dc:creator>Владелец</dc:creator>
  <dc:description/>
  <dc:language>en-US</dc:language>
  <cp:lastModifiedBy>Владелец</cp:lastModifiedBy>
  <dcterms:modified xsi:type="dcterms:W3CDTF">2010-05-30T10:16:10Z</dcterms:modified>
  <cp:revision>52</cp:revision>
  <dc:subject/>
  <dc:title>Слайд 1</dc:title>
</cp:coreProperties>
</file>